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992-5A52-47C0-B83A-F207944D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F4C-BD24-42F9-ABE9-3995DF81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94A-D810-4776-8A01-4EF94979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F3D-3DB1-4DD5-B18C-7E2B74A4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C06-8D89-4850-BA52-F7E7945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D8B-11A2-4D03-9020-AA217359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6DE-6AC3-41C5-BC0E-C86CECF1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401-A7C6-4C08-8C1F-E0EF58BF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38B-5957-4B0B-A23C-ABD9A64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0DD-B1C7-45CD-87BE-2BE2986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0F6-BB37-49B6-91B7-66924EEE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ED6-1605-4AF4-9E4E-6311443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5BA9C-B058-4FC2-9AD9-B28C4A9244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3.org/2004/01/rdxh/spec" TargetMode="External"/><Relationship Id="rId2" Type="http://schemas.openxmlformats.org/officeDocument/2006/relationships/hyperlink" Target="http://microformats.org/" TargetMode="External"/><Relationship Id="rId3" Type="http://schemas.openxmlformats.org/officeDocument/2006/relationships/hyperlink" Target="http://www.w3.org/TR/xhtml-rdfa-primer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sk.googlepages.com/" TargetMode="External"/><Relationship Id="rId2" Type="http://schemas.openxmlformats.org/officeDocument/2006/relationships/hyperlink" Target="http://kask.googlepage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taivo.kivistik@mkm.e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845820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taalide semantiline koosvõ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õhimõtted ning demosüsteemi üleva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nel Tam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s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914400"/>
            <a:ext cx="8458200" cy="9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TML ja andmete esitamise põhiküs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eglina esitatakse andmeid veebis inimloetaval html kuj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line html kuju ei ole kergesti masintöödelda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as peaks andmeid masintöötluseks esitama eraldi, spetsiaalses formaadis XML-failide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 juhul oleks meil andmed alati kahes eraldi fail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imloetav 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intöödeldav x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14400"/>
            <a:ext cx="84582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stus: eraldi xml-formaadis faile ei ole vaj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äiesti aktsepteeritav variant on mitte-xml-kujul olevas html failis olevate andmete märkimine ehk annoteerim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valist html-i saab parsida nagu xml-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u info lehel ei sega masintöötlem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imkasutajale annotatsioonid näha ei 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914400"/>
            <a:ext cx="84582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nnotatsioonide lisamine lehele on väga liht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äsitsi tehtud html-le lisame annotatsioonid käsitsi juu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grammiga tehtud html-i puhul lisame annotatsioonide trükkimise programmile juu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914400"/>
            <a:ext cx="84582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austaks: GRDDL, microformats ja RD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DDL: rdf-andmete võtmine harilikelt veebilehtedele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croformats: väikesed spetsiaalsed andmeke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a: rdf andmete esitamine annotatsioonid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kutav meetod ongi harilik GRD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icroforma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DF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obivad mõlemad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GRDD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ja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ovitame microformats-i asemel eelistada RDFa-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iversaals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indlik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3C soovi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ink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DDL          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3.org/2004/01/rdxh/sp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croformats  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microformats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a             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w3.org/TR/xhtml-rdfa-primer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914400"/>
            <a:ext cx="8458200" cy="74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DFa konkreetsemal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ovitame üldjuhul kasutada ainult neid RDFa võimalusi kui lihtsamai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id määramiseks:         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#kohalik_i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gi omaduse nime jaoks:     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er:omadu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üldiselt omaduse nime jaoks: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er:omadu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ui vaja (enamasti ei), tüüp:    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xsd:tyybinimi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maduse väärtus:                        tüüpiliselt htmls o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maduse väärtus alternatiivselt: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”väärtu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utuste lehtede hierarhi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ot kandva lehe lingi juurde panna rel=”er:infoleht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s ütleb automaattöötlejale, et sellelt lehelt saak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äiendavat (annotatsioonidega) inf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ehe algusossa anda lehe enda metainfot, näiteks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s osakonna lehega on tegemis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&lt;span property=”er:osakond” content=”juhtkond”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osüsteemi üleva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mosüsteemis on osaliselt annoteeritud olemasolevad asutuste veebileh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jandusministeeriumi kontaktinfo üld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jandusministeeriumi juhtkonna kontakt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jandusministeeriumi uudiste 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ridusministeeriumi uudiste 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iu maavalitsuse kontaktinfo üld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rtu maavalitsuse kontaktinfo üld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rtu maavalitsuse ühe töötaja eril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914400"/>
            <a:ext cx="8458200" cy="64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da demosüsteemi lehtedel annoteer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öötaja nimi, amet, telefon, email j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udise nimi ja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ehe enda osakond (kui on osakonna le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kide kasulikkus automaattöötluseks (kas lingita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eht on asutuse enda leht, mis sisaldab töödeldatav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i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914400"/>
            <a:ext cx="8458200" cy="85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illest demosüsteem koosne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ndmete agregaato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 loeb avalehelt linke, käib nemad ja edasiviivad lingid läbi, võtab välja RDFa info, salvestab info kõigilt käidud lehtedelt ühte RDF-andmefaili XML kuj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öötajate üld-veebilehe ehitaja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eb koostatud universaalset rdf-andmefaili ja teeb töötajate üldise html-lehe, mis sisaldab eri asutuste töötajaid samas formaad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Uudiste üld-veebilehe ehitaja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eb koostatud universaalset rdf-andmefaili ja teeb uudiste üldise html-lehe, mis sisaldab eri asutuste uudiseid samas formaad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öö eesmärk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uta andmete automaatne kättesaamine (portaalide jaoks ja portaalidest) ja töötlemine võimalikult lihtsa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14400"/>
            <a:ext cx="8458200" cy="9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mosüsteemi tehnolo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eldab, et arvutis on python ja libxml2/libxslt xml-t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-info eraldab html-st puhta xslt-programmi ab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öötlus toimub otse pytho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tabel on lihtne xml-f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baasiteeke/mootoreid ei kasut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tsiaalseid (eri)teeke ja mootoreid ei kasut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grammide kogusuurused (umbkaudsed)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tractrdfa.xsl:     4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gregator:        10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otajad.cgi:         4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udised.cgi:         5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9144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mantilin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koosvõim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ame silmas andmete (nimed, arvud, kuupäevad, tekstid jne) sisulist kättesaamist edasist töötlemist võimaldaval kujul, mitte lihtsalt nende kuvamist näiteks gif-piltid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914400"/>
            <a:ext cx="8458200" cy="87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issejuhatav kokkuvõte soovitus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ovitame esitada andmeid veebilehel selliselt, 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med oleks harilikul (suvalisel) inimloetaval html-kujul tekstidena. xml formaat ei ole tingimata vajali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rilikul html-lehel olevate andmejuppide ümber pannakse RDFa formaadis metainfo, mis ütleb automaattöötlejale, mis andmetega on tegem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satav metainfo ei muuda lehe algset väljanägemist ja üldjuhul ei dubleeri lehel juba olevat inf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25280"/>
            <a:ext cx="8458200" cy="9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äide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gse html-tek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Jaanus Kask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6024554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&lt;a href=”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kask.googlepages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&gt;kliki siia&lt;/a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emel on html-tekstiks RDFa järgi annoteerit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about=”#jaanus_kask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roperty=”er:nimi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Jaanus Kask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roperty=”er:telefon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6024554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d&gt;&lt;a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el=”er:koduleht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ef=”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kask.googlepages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&gt;kliki siia&lt;/a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914400"/>
            <a:ext cx="8458200" cy="83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äide 2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gse html tek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tootaja_nimi"       href="http://www.mkm.ee/index.php?id=7187&amp;amp;tootaja=10000450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vo Kivistik&lt;/a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 class="tootaja_inf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ekantsler (õigusa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br&gt;Tel:  6256346 | E-po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kontakt_mail" href="javascript:void(0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lick="sendmail('taivo.kivistik', 'mkm.ee')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taivo.kivis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img src="majandus_juhtkond_files/e_post.gif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="e_post_gif" border="0"&gt;mkm.ee&lt;/a&gt; &lt;br&gt;&lt;/div&gt;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8458200" cy="83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äide 2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emel kasutatakse RDFa järgi annoteeritud htm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about="#Taivo_Kivistik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tootaja_nimi"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el="er:koduleht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href="http://www.mkm.ee/index.php?id=7187&amp;amp;tootaja=10000450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property="er:nimi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vo Kivistik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/span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a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iv class="tootaja_inf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property="er:amet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ekantsler (õigusala)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br&gt;Tel: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span property="er:telefon"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256346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/span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E-po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 class="kontakt_mail" href="javascript:void(0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lick="sendmail('taivo.kivistik', 'mkm.ee')"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roperty="er:email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content="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aivo.kivistik@mkm.e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taivo.kivis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img src="majandus_juhtkond_files/e_post.gif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="e_post_gif" border="0"&gt;mkm.ee&lt;/a&gt; &lt;br&gt;&lt;/div&gt;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914400"/>
            <a:ext cx="845820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nnotatsioonide peamine kasutusstenaariu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utused annoteerivad oma harilikke veebilehti 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Üldportaalid loevad asutuste lehtedelt regulaarselt neid huvitavat infot ja lisavad seda oma andmebaa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Üldportaalid kasutavad oma andmebaasi erikuvamiste ja eripäringute jao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914400"/>
            <a:ext cx="8458200" cy="10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austaks: mis on r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 on w3c toetatud universaalne andmeformaat, mis on ette nähtud andmevahetuseks eri süsteemide vah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df kujul andmeühikud on neljast osast koosnevad nn andmekolmik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unikaalne id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omaduse nim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kti omaduse väär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äärtuse tüüp (number, id, suvaline string, .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äite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E3651602310”   “nimi”  “Tanel Tammet”   “str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/>
  <cp:revision>0</cp:revision>
  <dc:subject/>
  <dc:title/>
</cp:coreProperties>
</file>